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60BF-93BB-4271-9CD5-FA7736C8113B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9E01-DAA1-4852-AA4E-27E7ADB44F2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A00D-3492-4837-B2C5-48A57D281565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C43D-3319-410E-9DEF-15613AF6856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B99F-9F7A-407F-979D-B492F0723D8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5FFD-15EA-4881-BE44-CEF7AA418FA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8B9C-C542-40DD-9465-4B41FDFA883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5E2-A817-4AD8-9665-2AB4CBD052BC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FA46-58DB-4080-A469-560AF611580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4889-1A8C-4314-AB6A-29FAED27E090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4CA0-49F8-46D8-A449-64A41243301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1716-067C-489B-BD90-393EC67657A1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5E5E-8779-42DC-BD4C-187C751DE2D4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D348-A26E-4A6D-834B-60BEAE5AA5D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6AA2-0A47-4705-9BC3-2FE6748FB96D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3FB-1B22-4AFB-8B51-9B5B5CDC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4CC-579F-4338-8D35-3896082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B9E-F2A7-4ECD-8AFA-A2EBB619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A7A-F2DA-45C7-B1D3-F2483768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17E-285F-4F74-8332-8209059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5F7-D2BA-42A3-9C49-16E6293D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752-436B-4456-80F5-6A8C3C5A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CFF-86A4-49F0-8250-E7F1924C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FCD-70D9-4EDE-A886-7045FB3D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E23-667A-45AB-91BA-A53130C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0AC-D2D1-457D-9E01-8BF404A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A82-3E8E-4DBF-BEBD-7E6BF519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A28-FC12-4964-827D-43624904DE5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sertstream.org/" TargetMode="External"/><Relationship Id="rId3" Type="http://schemas.openxmlformats.org/officeDocument/2006/relationships/hyperlink" Target="http://www.exodusintl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compasi</a:t>
            </a:r>
            <a:r>
              <a:rPr b="0" lang="es-ES_tradnl" sz="4800" spc="-1" strike="noStrike">
                <a:solidFill>
                  <a:srgbClr val="000000"/>
                </a:solidFill>
                <a:latin typeface="Calibri"/>
              </a:rPr>
              <a:t>ón pastoral</a:t>
            </a:r>
            <a:br>
              <a:rPr sz="4800"/>
            </a:br>
            <a:r>
              <a:rPr b="0" lang="es-ES_tradnl" sz="4800" spc="-1" strike="noStrike">
                <a:solidFill>
                  <a:srgbClr val="000000"/>
                </a:solidFill>
                <a:latin typeface="Calibri"/>
              </a:rPr>
              <a:t>y la confusión de géner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64796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v. Dr. Huberto Pimen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astor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¿Debe la iglesia respetar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 los derechos civiles de los homosexua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120" y="1676520"/>
            <a:ext cx="1219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S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828440" y="15998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Como debe respetar los derechos civiles de todas las personas, sin importar su raza, nacionalidad o cre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También debe resistir toda forma injusta e inhumana de tratar al prójim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Rac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Mach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Explotación, discriminación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  <a:ea typeface="Tahoma"/>
              </a:rPr>
              <a:t>¿Hay personas de orientación homosexual</a:t>
            </a: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Tahoma"/>
                <a:ea typeface="Tahoma"/>
              </a:rPr>
              <a:t> en nuestras iglesia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360" y="1600200"/>
            <a:ext cx="990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S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28800" y="159984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Así como hay envidiosos, avaros y rac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La iglesia no es un club de santos, sino una comunidad de fe en donde todos recuperamos la salud y crece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Y esto erais algunos; mas ya habéis sido lavados, ya habéis sido santificados, ya habéis sido justificados en el nombre del Señor Jesús, y por el Espíritu de nuestro Dios” (1 Co.6: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4059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ahoma"/>
                <a:ea typeface="Tahoma"/>
              </a:rPr>
              <a:t>¿Es apropiado para un cristiano participar</a:t>
            </a: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Tahoma"/>
                <a:ea typeface="Tahoma"/>
              </a:rPr>
              <a:t>en una vida erótica homosexual?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120" y="2057400"/>
            <a:ext cx="1143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N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3880" y="2057400"/>
            <a:ext cx="7391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De igual forma que no es apropiado para una persona heterosexual persistir en el adulterio o la fornic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Está llamado, al igual que los solteros heterosexuales, de vivir una disciplinada vida de abstinenc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La gratificación sexual no es un derecho sagrado ni el celibato una horrible condena (Jesús y Pabl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¿Puede una person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homosexual cambi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1752480"/>
            <a:ext cx="990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alibri"/>
              </a:rPr>
              <a:t>SI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8440" y="160020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Lo afirman muchos que lo han hecho con la ayuda de Dios y del Cuerpo de Cris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Implica un proceso de crecimiento y madurez bajo el señorío de Cris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Requiere, con frecuencia, enfrentar abusos y relaciones problemátic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Incluye trabajar con su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Se sustenta en grupos de apoyo de su propio sex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¿Hay recursos para orientar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a la iglesia en este ministeri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600200"/>
            <a:ext cx="838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alibri"/>
              </a:rPr>
              <a:t>SI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28440" y="160020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Hay libros, publicaciones y grab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Hay ministerios con experi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Desert Stream Ministries, Anaheim, 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www.desertstream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Exodus International, Seattle, 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www.exodusintl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Tahoma"/>
              </a:rPr>
              <a:t>¿Por qué un tema como é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17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orque vivimos en una socie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iper-sexualiz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iper-hedon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orque la iglesia está en el mu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 de sus dolores, sus luchas y sus estadís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orque el tema es imposterg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Nuestros jóvenes (hijos e hijas) está expuestos al tema y nos hacen pregu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Porque la iglesia tiene la responsabilidad de definirse y orientar a sus miembros y a la comun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Un diálogo milena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os cristianos, desde que se fundó la iglesia, han reflexionado sobre la sexualidad humana. Es saludable que tratemos el t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 apertura y sabidurí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 la gracia en una mano y con la verdad en la o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 convicciones firmes y con corazón compasiv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nformados por la Palabra de Dios e iluminados por el Espíritu Sa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Presuposicio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Todos somos seres huma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No existe el fenómeno llamado “homosexual”, sólo existen personas creadas a la imagen y semejanza de D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Todos somos seres sexu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 sexualidad es esencial a nuestra humanidad, es parte de nuestra ident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Todos somos pecad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Desde el punto de vista de Dios nadie es “derecho”, todos estamos torcidos y necesitamos reden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Todos (aquí) somos cristia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Queremos vivir bajo el señorío de Cristo y aceptamos la Biblia como la palabra de Dios, la única norma de fe, conducta y doctr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*John Stott,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 Fe Cristiana Frente a los Desafíos Contemporáneos, Eerdman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, 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Asuntos de fon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Nuestro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enguaj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primario es teológico, no juríd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En vez de usar el lenguaje de los derechos y de los delitos, debemos mantenernos en el lenguaje teológico (creación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pecado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redención)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Nuestra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central está en Jesucristo, no en nuestra sexu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 cultura afirma que humanidad plen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sexualidad acti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acemos distinción entr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orient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y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ndu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Rigurosa diferencia entre “ser” y “hacer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Entre identidad y conduc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entre preferencia y práctica sexu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Niveles de homosexualidad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6680" y="14475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trac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homosex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Puede ser una etapa transitoria en el desarrollo psicosexual del adolesc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homosex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¿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So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 yo homosexual?”–      “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Yo so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 homosexua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nduct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homosex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Un acto aislado: experimento, vio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Una conducta habi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Estilo de vid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omosex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Una opción consciente generalmente vinculada a una comunidad gay que afirma, celebra, protege y avanza su cau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Andrew Comiskey, Desert Streams Minis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4"/>
          <p:cNvSpPr/>
          <p:nvPr/>
        </p:nvSpPr>
        <p:spPr>
          <a:xfrm>
            <a:off x="46483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Distinciones necesar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1600200"/>
            <a:ext cx="4648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e una persona que lucha con una inclinación o conducta homosex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homosex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Una persona (homosexual o heterosexual) con VIH/S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638680" y="1600200"/>
            <a:ext cx="3276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el militante homosex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un paid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ófil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y el contagi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30456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  <a:ea typeface="Tahoma"/>
              </a:rPr>
              <a:t>Dimensiones cultural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reaccione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de los latinos frente a la homosexualidad difieren de las reacciones de la cultura dominante en los E.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Anglos: “homofobi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tinos: no le temen al homosexual, lo desprecian por no haber escogido probar su masculinidad. Las lesbianas son ignoradas o toleradas en un ambiente donde su sexualidad es reprim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nceptualiz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de la homosexualidad también es difer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Anglo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oda persona que siente atracc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ón por personas de su propio sex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ahoma"/>
              </a:rPr>
              <a:t>Latinos: sólo el que se ha colocado en la posición de mujer. Quien penetra retiene (y hasta incrementa) su machism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*De la Torre &amp; Aponte,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roducing Latino/a Theologi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. Orbis Books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ahoma"/>
              </a:rPr>
              <a:t>¿Es la enseñanza de la Biblia ambigua en cuanto a la conducta homosexu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752120"/>
            <a:ext cx="99072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alibri"/>
              </a:rPr>
              <a:t>NO!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4760" y="1599840"/>
            <a:ext cx="6933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Tanto la práctica homosexual como la fornicación y el adulterio son tratados como “pecad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mo una ruptura del orden mo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Como una ofensa a D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ahoma"/>
              </a:rPr>
              <a:t>La Biblia se refiere a la homosexualidad como una conducta, no como una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6:07:08Z</dcterms:created>
  <dc:creator>Jorge Maldonado</dc:creator>
  <dc:description/>
  <dc:language>en-US</dc:language>
  <cp:lastModifiedBy>Hispanic Ministries Hpimentel</cp:lastModifiedBy>
  <cp:lastPrinted>2009-04-22T19:24:48Z</cp:lastPrinted>
  <dcterms:modified xsi:type="dcterms:W3CDTF">2010-09-12T16:22:11Z</dcterms:modified>
  <cp:revision>23</cp:revision>
  <dc:subject/>
  <dc:title>La compasión pastoral y la Confusión de géner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