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F185-5D53-422B-93FC-7C2D19A9A08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5296-2A4D-48C0-A1ED-381BBDBA74E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0438-EC09-4377-B857-AC9E3CEF026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7B23-9186-484D-B02E-4984D91D56F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294A-EB58-4792-8D91-7D644EB8E26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C8D0-D716-4A6D-AB9A-890D7850AE1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3037-AFB7-46F6-9E25-35D34DD48FD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4F6F-9AB4-4B6C-AF7A-A6811A2F0CC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1653-0A34-4779-90A6-3B9D6B9E764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2714-C685-4D24-B5FB-62D950B05DA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17E8-9E9C-48B9-80EE-1E4EF8311FE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5C49-E7EA-4E53-A0B5-E02410DB1EF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A51F-64B5-4A93-B3A0-AD8A92B5858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D6B9-BD63-46B5-9AE0-962DF095315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910D-EC93-42D8-BFBA-E574CFFFCEA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67E-1DA9-4AFB-8D05-FC1FC12E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97A-E508-462D-A761-1EE357F8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F95-057C-4613-BEAF-ECFF50B6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877-5018-42C1-87F9-178CD796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A8E-8913-47E3-9E32-AD56B86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219-648F-46AF-ABCD-57848E2E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C36-0EF7-4BD5-83FB-FB2C9212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C9E-73E7-4851-A0B7-6CA02B3A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A2D-C5DE-4EE1-BF6C-5FCD788A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95B-8C21-4F37-8652-E480F8BE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137-C0C0-4FEB-BFFC-17E36DC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E7C-A40C-4BBE-AC03-82DACEDA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E4D5-80E9-4FE7-BBDB-E33C4A30B0D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sertstream.org/" TargetMode="External"/><Relationship Id="rId3" Type="http://schemas.openxmlformats.org/officeDocument/2006/relationships/hyperlink" Target="http://www.exodusintl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compasi</a:t>
            </a:r>
            <a:r>
              <a:rPr b="0" lang="es-ES_tradnl" sz="4800" spc="-1" strike="noStrike">
                <a:solidFill>
                  <a:srgbClr val="000000"/>
                </a:solidFill>
                <a:latin typeface="Calibri"/>
              </a:rPr>
              <a:t>ón pastoral</a:t>
            </a:r>
            <a:br>
              <a:rPr sz="4800"/>
            </a:br>
            <a:r>
              <a:rPr b="0" lang="es-ES_tradnl" sz="4800" spc="-1" strike="noStrike">
                <a:solidFill>
                  <a:srgbClr val="000000"/>
                </a:solidFill>
                <a:latin typeface="Calibri"/>
              </a:rPr>
              <a:t>y la confusión de géner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64796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v. Dr. Huberto Pimen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astor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¿Debe la iglesia respetar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 los derechos civiles de los homosexua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120" y="1676520"/>
            <a:ext cx="1219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S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828440" y="15998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Como debe respetar los derechos civiles de todas las personas, sin importar su raza, nacionalidad o cre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También debe resistir toda forma injusta e inhumana de tratar al prójim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Rac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Mach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Explotación, discriminación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  <a:ea typeface="Tahoma"/>
              </a:rPr>
              <a:t>¿Hay personas de orientación homosexual</a:t>
            </a: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Tahoma"/>
                <a:ea typeface="Tahoma"/>
              </a:rPr>
              <a:t> en nuestras iglesia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360" y="1600200"/>
            <a:ext cx="990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S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28800" y="159984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Así como hay envidiosos, avaros y rac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La iglesia no es un club de santos, sino una comunidad de fe en donde todos recuperamos la salud y crece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Y esto erais algunos; mas ya habéis sido lavados, ya habéis sido santificados, ya habéis sido justificados en el nombre del Señor Jesús, y por el Espíritu de nuestro Dios” (1 Co.6: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4059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  <a:ea typeface="Tahoma"/>
              </a:rPr>
              <a:t>¿Es apropiado para un cristiano participar</a:t>
            </a: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Tahoma"/>
                <a:ea typeface="Tahoma"/>
              </a:rPr>
              <a:t>en una vida erótica homosexual?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120" y="2057400"/>
            <a:ext cx="1143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N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3880" y="2057400"/>
            <a:ext cx="7391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De igual forma que no es apropiado para una persona heterosexual persistir en el adulterio o la fornic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Está llamado, al igual que los solteros heterosexuales, de vivir una disciplinada vida de abstinenc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La gratificación sexual no es un derecho sagrado ni el celibato una horrible condena (Jesús y Pabl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¿Puede una person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homosexual cambi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1752480"/>
            <a:ext cx="990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alibri"/>
              </a:rPr>
              <a:t>SI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8440" y="160020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Lo afirman muchos que lo han hecho con la ayuda de Dios y del Cuerpo de Cris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Implica un proceso de crecimiento y madurez bajo el señorío de Cris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Requiere, con frecuencia, enfrentar abusos y relaciones problemátic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Incluye trabajar con su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Se sustenta en grupos de apoyo de su propio sex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¿Hay recursos para orientar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a la iglesia en este ministeri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600200"/>
            <a:ext cx="838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alibri"/>
              </a:rPr>
              <a:t>SI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28440" y="160020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Hay libros, publicaciones y grab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Hay ministerios con experi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Desert Stream Ministries, Anaheim, 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www.desertstream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Exodus International, Seattle, 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www.exodusintl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Tahoma"/>
              </a:rPr>
              <a:t>¿Por qué un tema como é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17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orque vivimos en una socie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iper-sexualiz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iper-hedon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orque la iglesia está en el mu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 de sus dolores, sus luchas y sus estadís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orque el tema es imposterg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Nuestros jóvenes (hijos e hijas) está expuestos al tema y nos hacen pregu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orque la iglesia tiene la responsabilidad de definirse y orientar a sus miembros y a la comun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Un diálogo milena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os cristianos, desde que se fundó la iglesia, han reflexionado sobre la sexualidad humana. Es saludable que tratemos el t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 apertura y sabidurí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 la gracia en una mano y con la verdad en la o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 convicciones firmes y con corazón compasiv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nformados por la Palabra de Dios e iluminados por el Espíritu Sa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Presuposicio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Todos somos seres huma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No existe el fenómeno llamado “homosexual”, sólo existen personas creadas a la imagen y semejanza de D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Todos somos seres sexu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 sexualidad es esencial a nuestra humanidad, es parte de nuestra ident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Todos somos pe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Desde el punto de vista de Dios nadie es “derecho”, todos estamos torcidos y necesitamos reden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Todos (aquí) somos cristia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Queremos vivir bajo el señorío de Cristo y aceptamos la Biblia como la palabra de Dios, la única norma de fe, conducta y doctr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*John Stott,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 Fe Cristiana Frente a los Desafíos Contemporáneos, Eerdman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, 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Asuntos de fon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Nuestro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enguaj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primario es teológico, no juríd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En vez de usar el lenguaje de los derechos y de los delitos, debemos mantenernos en el lenguaje teológico (creación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pecado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redención)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Nuestra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central está en Jesucristo, no en nuestra sexu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 cultura afirma que humanidad plen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sexualidad 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acemos distinción entr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orient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y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ndu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Rigurosa diferencia entre “ser” y “hac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Entre identidad y conduc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entre preferencia y práctica sexu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Niveles de homosexualidad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6680" y="14475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trac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homosex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Puede ser una etapa transitoria en el desarrollo psicosexual del adolesc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homosex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¿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So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 yo homosexual?”–      “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Yo so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 homosexua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nduct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homosex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Un acto aislado: experimento, vio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Una conducta habi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Estilo de vid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omosex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Una opción consciente generalmente vinculada a una comunidad gay que afirma, celebra, protege y avanza su cau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Andrew Comiskey, Desert Streams Minis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4"/>
          <p:cNvSpPr/>
          <p:nvPr/>
        </p:nvSpPr>
        <p:spPr>
          <a:xfrm>
            <a:off x="46483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Distinciones necesar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1600200"/>
            <a:ext cx="4648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e una persona que lucha con una inclinación o conducta homosex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homosex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Una persona (homosexual o heterosexual) con VIH/S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638680" y="1600200"/>
            <a:ext cx="3276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el militante homosex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un paid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ófil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y el contagi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30456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Dimensiones cultural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reaccione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de los latinos frente a la homosexualidad difieren de las reacciones de la cultura dominante en los E.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Anglos: “homofobi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tinos: no le temen al homosexual, lo desprecian por no haber escogido probar su masculinidad. Las lesbianas son ignoradas o toleradas en un ambiente donde su sexualidad es reprim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nceptualiz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de la homosexualidad también es difer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Anglo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oda persona que siente atracc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ón por personas de su propio sex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tinos: sólo el que se ha colocado en la posición de mujer. Quien penetra retiene (y hasta incrementa) su machism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*De la Torre &amp; Aponte,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roducing Latino/a Theologi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 Orbis Books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¿Es la enseñanza de la Biblia ambigua en cuanto a la conducta homosexu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752120"/>
            <a:ext cx="99072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NO!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4760" y="1599840"/>
            <a:ext cx="6933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Tanto la práctica homosexual como la fornicación y el adulterio son tratados como “pecad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mo una ruptura del orden mo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mo una ofensa a D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La Biblia se refiere a la homosexualidad como una conducta, no como una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6:07:08Z</dcterms:created>
  <dc:creator>Jorge Maldonado</dc:creator>
  <dc:description/>
  <dc:language>en-US</dc:language>
  <cp:lastModifiedBy>Hispanic Ministries Hpimentel</cp:lastModifiedBy>
  <cp:lastPrinted>2009-04-22T19:24:48Z</cp:lastPrinted>
  <dcterms:modified xsi:type="dcterms:W3CDTF">2010-09-12T16:22:11Z</dcterms:modified>
  <cp:revision>23</cp:revision>
  <dc:subject/>
  <dc:title>La compasión pastoral y la Confusión de géner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